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585-0F6A-48E9-83D2-DC58559E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106-3880-4608-AD64-556CA91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B2D-6D6F-478C-B54C-F8D71774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B33-337B-4352-B667-47299729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BA7A-AF84-42C2-B6A1-D32877D1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A523-78FC-4DA8-801F-94088705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BF21-46E0-4F2E-B2EA-46A9FE9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A3F-F0B8-4C07-96DB-E96B6CB3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EDAB-E11B-4E63-B301-75BCED3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EE6-3195-4B80-8999-DCB0C76C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1A44-D64C-449D-B482-19936C4B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A13-4301-4861-B564-9459955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584-0C8E-43E6-809B-6572FE2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E9A7-8E93-4ECC-A965-F432A8B9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937-5CCA-41ED-9D20-19E7ED98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A686-A3F1-4D95-A2A1-8270E6EB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D15-6210-4D32-A8CF-9861EAC1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85D1-9FEF-4DC8-A6C3-D32BD2B3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90B4-EDAF-43E7-AA77-4456B9D1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F6AC-17D8-4D45-A181-6B839CC5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3754-4198-404D-8FD1-0175D4E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08B0-0724-445F-82E9-8B9829FF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8EB-2785-420A-8541-F41FBDBC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9E345-1315-4754-A05C-A34F696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0AC8-4828-48EB-A548-B4FCD61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027A-A831-4A2F-827E-CDD622C3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0243-2519-4148-9BDF-F22C2F2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8FE5-9767-4C19-A3EE-DA0FFD09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CB69-EF1B-41D3-93BA-DC66A7E1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12F3-7213-4C0E-BE5B-A0D9263F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2E38-F620-4CE7-9C11-54075428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0D4B-0A64-4D2B-AD57-558DB41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6533-BF68-46A0-A571-30DDA99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791-F350-4459-B524-4CF0B6C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A864-5963-4C93-8ACC-67CA75D2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1015-F564-4820-85EA-1E14040D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928D-3886-4A88-A8C4-DA491A4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0037-7773-4D61-814B-15EDB18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2DE8-27EC-4D4F-B0F5-E8EBCE2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9DB4-3FE0-48E9-A2AA-ED86DC6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123B-4735-410D-8085-0A94AB5C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589D-9076-451F-AE79-114997CD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1EA2-1E34-4904-8C62-FA6FA77E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6A63-ECB1-4F3A-A39F-B89995DD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C63-88BB-466C-B128-DC976EC0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0A1A-B4D0-4A16-893E-11746676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64B6-137E-4D86-B6C9-A3359057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719B2-87C9-4C62-BAFD-EEBFD963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9041-622F-403E-BF43-F4840FC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BE32-4798-4E78-A5BC-CEA8ECC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D02B-7A0D-4B99-90EC-D24FBBE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0322B-6944-4767-9FB9-8E87CB0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9E421-9091-4AD7-9D09-55F0B52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CDC18-89AF-46DF-8A51-D3C0D5A5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63C9-D72D-423D-8196-9F5BDE32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E4F-E5D0-4131-9A4F-FC573C2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C3FB-B4BA-4468-8B4A-64BEFE7F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153D-FAE8-4CD6-818F-8F234923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A9413-A9E1-4E9D-BDB2-482597C9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90059-65A1-4380-A166-FA811131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68BC-0B10-4A9A-8EA1-38E8F941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7591-F9B9-4253-8D58-10B8E6C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6874-FC53-4DAD-B333-ED3ADF0E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9863-7634-42B0-9559-3A6E89C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6CAF-D002-4451-A579-BFBEC2B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F9155-9B64-4718-9395-39F1D515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0CF-4CEE-428C-8DA3-634350DF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1B558-CBFA-43CE-B188-52D7B617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9832-030B-450D-99B2-F1A9ADAC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D0BB7-E282-4284-93FB-23C6923E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41ED-425D-4B6F-A96A-69CB43DA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E1C7-6852-45E0-B2E2-5348CF65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90C5-641A-4C0D-A52C-69ADEE6D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EFB33-4DF3-4D2F-8874-B869406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6A4D-641B-4ED9-8DFA-0C105F4B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D4A6-4EAD-4853-A68F-5EE80779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97F23-C376-43A1-B07A-1BF3807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E21-3AE8-48C1-B2EE-BFB67617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746D-1187-49B8-A179-A68C14B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1188-F47C-46C7-8C31-F62A1F96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D679-9A16-4513-A84D-774C6510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E6E0-D7F1-4A2B-957B-4915A297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FF2A-7D52-4A4A-8EAA-94CF7AD5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08A-B8CA-43D2-B91C-C9058CE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7933-C5F5-4321-B344-5169A1A312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5906-FAD0-4A4C-A2EA-C1894586C51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A31-225B-454E-96B8-1F4D4390E1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3820-FC79-4CD9-A6BD-53DC4B7206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04C-3EBC-4650-879C-3FF1DF405F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CDF9-E790-4822-8E51-65B5862862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47BC-0669-4355-9E8F-39995CC533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ye and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ddle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2193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ains three bones (smallest in the bod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three  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alle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c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ap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hammer, anvil, and stirrup) transmit the vibrational waves to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val wind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 membrane connected to the inner e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in middle is a opening to the pharynx called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ustachian 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es pressure affecting tympanic membra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ner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ual center where sound waves are proces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s fluid filled chambers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micircular cana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responsible for spatial orie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chle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the hearing cent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ed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uditory ner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ich relays info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uditory complex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cerebr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2578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ye is covered in a tough layer of connective tissue called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cle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s covered by a mucous membrane called 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es clear in front of the eyes,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rne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xt inner layer i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oro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urns into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iliary bod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then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ri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gives the eye its colou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ris can change size, regulate amount of ligh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hole it makes is 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up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380520"/>
            <a:ext cx="7499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nermost layer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t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de of neurons and photoreceptors (clustered in the bac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centre of fron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lexible, focuses light entering ey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pe controlled by ciliary bo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liary bodies contract, compressing lens, focus on near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the relax, lens lengthens, focus on distance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ght passes through clear fluid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itreous humo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45720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uid supplied by ciliary bod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ght strikes two types of photoreceptors,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od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ds detect inten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es detect colour (three typ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ds more around perimeter, cones in cen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luster of cone cells at centre of vision is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ve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ormation is processed and sent through optic ner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nerve leaves a sort of “optic bald spot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ptic dis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k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lind spo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sual cortex (posterior of cerebrum) fills in the blanks, so we normally don’t see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ken into three sections: outer, middle, and in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921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er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two stru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ual “ear” that we see i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n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s to a tube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uditory can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th are designed to collect logitudinal compression and rarefaction wa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3:03:10Z</dcterms:created>
  <dc:creator>ED18</dc:creator>
  <dc:description/>
  <dc:language>en-US</dc:language>
  <cp:lastModifiedBy>ED18</cp:lastModifiedBy>
  <dcterms:modified xsi:type="dcterms:W3CDTF">2011-05-27T11:11:17Z</dcterms:modified>
  <cp:revision>5</cp:revision>
  <dc:subject/>
  <dc:title>Eye and Ear</dc:title>
</cp:coreProperties>
</file>